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Transparencies" id="1">
      <p:sldLst>
        <p:sld r:id="rId7"/>
        <p:sld r:id="rId11"/>
        <p:sld r:id="rId13"/>
        <p:sld r:id="rId24"/>
        <p:sld r:id="rId25"/>
        <p:sld r:id="rId30"/>
        <p:sld r:id="rId32"/>
      </p:sldLst>
    </p:custShow>
    <p:custShow name="Images" id="2">
      <p:sldLst>
        <p:sld r:id="rId9"/>
        <p:sld r:id="rId17"/>
        <p:sld r:id="rId19"/>
      </p:sldLst>
    </p:custShow>
    <p:custShow name="Section 1" id="3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Section 2" id="4">
      <p:sldLst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</p:sldLst>
    </p:custShow>
    <p:custShow name="Section 3" id="5">
      <p:sldLst>
        <p:sld r:id="rId28"/>
        <p:sld r:id="rId29"/>
        <p:sld r:id="rId30"/>
        <p:sld r:id="rId31"/>
        <p:sld r:id="rId32"/>
        <p:sld r:id="rId33"/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6"/>
          <p:cNvSpPr/>
          <p:nvPr/>
        </p:nvSpPr>
        <p:spPr>
          <a:xfrm>
            <a:off x="3429000" y="21276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arth’s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66680" y="2209680"/>
            <a:ext cx="678204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5"/>
          <p:cNvSpPr/>
          <p:nvPr/>
        </p:nvSpPr>
        <p:spPr>
          <a:xfrm>
            <a:off x="1143000" y="1219320"/>
            <a:ext cx="708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1066680" y="2209680"/>
            <a:ext cx="4267440" cy="457200"/>
          </a:xfrm>
          <a:custGeom>
            <a:avLst/>
            <a:gdLst>
              <a:gd name="textAreaLeft" fmla="*/ 29520 w 4267440"/>
              <a:gd name="textAreaRight" fmla="*/ 4237920 w 4267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01470" h="21600">
                <a:moveTo>
                  <a:pt x="0" y="0"/>
                </a:moveTo>
                <a:lnTo>
                  <a:pt x="201470" y="0"/>
                </a:lnTo>
                <a:lnTo>
                  <a:pt x="201470" y="21600"/>
                </a:lnTo>
                <a:lnTo>
                  <a:pt x="0" y="21600"/>
                </a:lnTo>
                <a:close/>
              </a:path>
              <a:path fill="lightenLess" w="201470" h="21600">
                <a:moveTo>
                  <a:pt x="0" y="0"/>
                </a:moveTo>
                <a:lnTo>
                  <a:pt x="201470" y="0"/>
                </a:lnTo>
                <a:lnTo>
                  <a:pt x="200070" y="1400"/>
                </a:lnTo>
                <a:lnTo>
                  <a:pt x="1400" y="1400"/>
                </a:lnTo>
                <a:close/>
              </a:path>
              <a:path fill="darken" w="201470" h="21600">
                <a:moveTo>
                  <a:pt x="201470" y="0"/>
                </a:moveTo>
                <a:lnTo>
                  <a:pt x="201470" y="21600"/>
                </a:lnTo>
                <a:lnTo>
                  <a:pt x="200070" y="20200"/>
                </a:lnTo>
                <a:lnTo>
                  <a:pt x="200070" y="1400"/>
                </a:lnTo>
                <a:close/>
              </a:path>
              <a:path fill="darkenLess" w="201470" h="21600">
                <a:moveTo>
                  <a:pt x="201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0070" y="20200"/>
                </a:lnTo>
                <a:close/>
              </a:path>
              <a:path fill="lighten" w="201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8"/>
          <p:cNvSpPr/>
          <p:nvPr/>
        </p:nvSpPr>
        <p:spPr>
          <a:xfrm>
            <a:off x="1066680" y="2819520"/>
            <a:ext cx="4267440" cy="457200"/>
          </a:xfrm>
          <a:custGeom>
            <a:avLst/>
            <a:gdLst>
              <a:gd name="textAreaLeft" fmla="*/ 29520 w 4267440"/>
              <a:gd name="textAreaRight" fmla="*/ 4237920 w 4267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01470" h="21600">
                <a:moveTo>
                  <a:pt x="0" y="0"/>
                </a:moveTo>
                <a:lnTo>
                  <a:pt x="201470" y="0"/>
                </a:lnTo>
                <a:lnTo>
                  <a:pt x="201470" y="21600"/>
                </a:lnTo>
                <a:lnTo>
                  <a:pt x="0" y="21600"/>
                </a:lnTo>
                <a:close/>
              </a:path>
              <a:path fill="lightenLess" w="201470" h="21600">
                <a:moveTo>
                  <a:pt x="0" y="0"/>
                </a:moveTo>
                <a:lnTo>
                  <a:pt x="201470" y="0"/>
                </a:lnTo>
                <a:lnTo>
                  <a:pt x="200070" y="1400"/>
                </a:lnTo>
                <a:lnTo>
                  <a:pt x="1400" y="1400"/>
                </a:lnTo>
                <a:close/>
              </a:path>
              <a:path fill="darken" w="201470" h="21600">
                <a:moveTo>
                  <a:pt x="201470" y="0"/>
                </a:moveTo>
                <a:lnTo>
                  <a:pt x="201470" y="21600"/>
                </a:lnTo>
                <a:lnTo>
                  <a:pt x="200070" y="20200"/>
                </a:lnTo>
                <a:lnTo>
                  <a:pt x="200070" y="1400"/>
                </a:lnTo>
                <a:close/>
              </a:path>
              <a:path fill="darkenLess" w="201470" h="21600">
                <a:moveTo>
                  <a:pt x="201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0070" y="20200"/>
                </a:lnTo>
                <a:close/>
              </a:path>
              <a:path fill="lighten" w="201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9"/>
          <p:cNvSpPr/>
          <p:nvPr/>
        </p:nvSpPr>
        <p:spPr>
          <a:xfrm>
            <a:off x="1066680" y="3533760"/>
            <a:ext cx="4953240" cy="407880"/>
          </a:xfrm>
          <a:custGeom>
            <a:avLst/>
            <a:gdLst>
              <a:gd name="textAreaLeft" fmla="*/ 26280 w 4953240"/>
              <a:gd name="textAreaRight" fmla="*/ 4926960 w 4953240"/>
              <a:gd name="textAreaTop" fmla="*/ 26280 h 407880"/>
              <a:gd name="textAreaBottom" fmla="*/ 381600 h 407880"/>
            </a:gdLst>
            <a:ahLst/>
            <a:rect l="textAreaLeft" t="textAreaTop" r="textAreaRight" b="textAreaBottom"/>
            <a:pathLst>
              <a:path w="262095" h="21600">
                <a:moveTo>
                  <a:pt x="0" y="0"/>
                </a:moveTo>
                <a:lnTo>
                  <a:pt x="262095" y="0"/>
                </a:lnTo>
                <a:lnTo>
                  <a:pt x="262095" y="21600"/>
                </a:lnTo>
                <a:lnTo>
                  <a:pt x="0" y="21600"/>
                </a:lnTo>
                <a:close/>
              </a:path>
              <a:path fill="lightenLess" w="262095" h="21600">
                <a:moveTo>
                  <a:pt x="0" y="0"/>
                </a:moveTo>
                <a:lnTo>
                  <a:pt x="262095" y="0"/>
                </a:lnTo>
                <a:lnTo>
                  <a:pt x="260695" y="1400"/>
                </a:lnTo>
                <a:lnTo>
                  <a:pt x="1400" y="1400"/>
                </a:lnTo>
                <a:close/>
              </a:path>
              <a:path fill="darken" w="262095" h="21600">
                <a:moveTo>
                  <a:pt x="262095" y="0"/>
                </a:moveTo>
                <a:lnTo>
                  <a:pt x="262095" y="21600"/>
                </a:lnTo>
                <a:lnTo>
                  <a:pt x="260695" y="20200"/>
                </a:lnTo>
                <a:lnTo>
                  <a:pt x="260695" y="1400"/>
                </a:lnTo>
                <a:close/>
              </a:path>
              <a:path fill="darkenLess" w="262095" h="21600">
                <a:moveTo>
                  <a:pt x="262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695" y="20200"/>
                </a:lnTo>
                <a:close/>
              </a:path>
              <a:path fill="lighten" w="262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28800" y="990720"/>
            <a:ext cx="606888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ras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1008000" y="1708200"/>
            <a:ext cx="40975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erate Grassla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mperate grasslands have few trees, and many different kinds of seed and grass-eating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8" descr=""/>
          <p:cNvPicPr/>
          <p:nvPr/>
        </p:nvPicPr>
        <p:blipFill>
          <a:blip r:embed="rId2"/>
          <a:stretch/>
        </p:blipFill>
        <p:spPr>
          <a:xfrm>
            <a:off x="5257800" y="1509840"/>
            <a:ext cx="3244680" cy="39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rassland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1008000" y="1708200"/>
            <a:ext cx="6840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vann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grassland that has scattered clumps of trees and seasonal rains is called a savan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"/>
          <p:cNvPicPr/>
          <p:nvPr/>
        </p:nvPicPr>
        <p:blipFill>
          <a:blip r:embed="rId2"/>
          <a:stretch/>
        </p:blipFill>
        <p:spPr>
          <a:xfrm>
            <a:off x="2743200" y="2541600"/>
            <a:ext cx="4826160" cy="35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s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1008000" y="1708200"/>
            <a:ext cx="684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ry and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iomes that are very dry and often very hot are called dese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008000" y="1143000"/>
            <a:ext cx="725796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un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1008000" y="1708200"/>
            <a:ext cx="68407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ar Tund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polar tundra, the layer of soil beneath the surface soil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lpine Tund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pine tundra also has permafrost. But alpine tundra is found at the top of tall moun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81524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120680" y="2362320"/>
            <a:ext cx="741384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abiotic factors that shape marine eco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ur major ocean z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ve marine eco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1"/>
          <p:cNvSpPr/>
          <p:nvPr/>
        </p:nvSpPr>
        <p:spPr>
          <a:xfrm>
            <a:off x="3429000" y="152280"/>
            <a:ext cx="46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ife in the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008000" y="1708200"/>
            <a:ext cx="718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biotic Fa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rine ecosystems are shaped by abiotic factors including water temperature, water depth, and the amount of sunlight that passes into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nk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illions of plankton live in the ocean. Plankton ar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1008000" y="1708200"/>
            <a:ext cx="71852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pth and Temper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temperature of ocean water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8" descr=""/>
          <p:cNvPicPr/>
          <p:nvPr/>
        </p:nvPicPr>
        <p:blipFill>
          <a:blip r:embed="rId2"/>
          <a:stretch/>
        </p:blipFill>
        <p:spPr>
          <a:xfrm>
            <a:off x="1008000" y="2932200"/>
            <a:ext cx="7012080" cy="28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3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1120680" y="2362320"/>
            <a:ext cx="74138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tween abiotic factors and biotic factors in bi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ven land biomes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4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1"/>
          <p:cNvSpPr/>
          <p:nvPr/>
        </p:nvSpPr>
        <p:spPr>
          <a:xfrm>
            <a:off x="3429000" y="152280"/>
            <a:ext cx="46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epth and Sun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1008000" y="1708200"/>
            <a:ext cx="718524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Intertidal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intertidal zone is the place where the ocean meets the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Nerit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you move farther away from shore, into the neritic zone, the water becomes dee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Ocean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oceanic zone, the sea floor drops shar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Benth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enthic zone is the ocean floor. The deepest part does not get any sun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9"/>
          <p:cNvSpPr/>
          <p:nvPr/>
        </p:nvSpPr>
        <p:spPr>
          <a:xfrm>
            <a:off x="3429000" y="152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6" descr="l20-25"/>
          <p:cNvPicPr/>
          <p:nvPr/>
        </p:nvPicPr>
        <p:blipFill>
          <a:blip r:embed="rId2"/>
          <a:stretch/>
        </p:blipFill>
        <p:spPr>
          <a:xfrm>
            <a:off x="2057400" y="1392120"/>
            <a:ext cx="5511960" cy="475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l20-25a"/>
          <p:cNvPicPr/>
          <p:nvPr/>
        </p:nvPicPr>
        <p:blipFill>
          <a:blip r:embed="rId3"/>
          <a:stretch/>
        </p:blipFill>
        <p:spPr>
          <a:xfrm>
            <a:off x="1981080" y="1041480"/>
            <a:ext cx="166716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9"/>
          <p:cNvSpPr/>
          <p:nvPr/>
        </p:nvSpPr>
        <p:spPr>
          <a:xfrm>
            <a:off x="3429000" y="152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1449360" y="1092240"/>
            <a:ext cx="632160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1"/>
          <p:cNvSpPr/>
          <p:nvPr/>
        </p:nvSpPr>
        <p:spPr>
          <a:xfrm>
            <a:off x="3429000" y="152280"/>
            <a:ext cx="46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Closer 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008000" y="1708200"/>
            <a:ext cx="71852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rtidal Are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ertidal areas are found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al Reef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ral reefs are found in warm, shallow areas of the neritic zone. Reefs provide homes for many marine animals and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stu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is called an estuary. Plants and animals living in estuaries must be able to survive in a changing concentration of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1"/>
          <p:cNvSpPr/>
          <p:nvPr/>
        </p:nvSpPr>
        <p:spPr>
          <a:xfrm>
            <a:off x="3429000" y="152280"/>
            <a:ext cx="46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ine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Closer Look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08000" y="1708200"/>
            <a:ext cx="71852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Sargasso S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cosystem called the Sargasso Sea is found in the middle of the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olar 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rctic Ocean and the ocean around Antarctica have icy waters, which are rich in nutrients. Many fishes, birds, and mammals live in this eco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1120680" y="2362320"/>
            <a:ext cx="741384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e abiotic factor that affects freshwater eco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three zones of a l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wo wetland eco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a lake becomes a fo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eam and River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008000" y="1708200"/>
            <a:ext cx="718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ter in Streams and Riv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ater in brooks, streams, and rivers may flow from melting ice or snow. Or the water may come from a sp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ibuta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ach stream of water that joins a larger stream is called a tribu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9"/>
          <p:cNvSpPr/>
          <p:nvPr/>
        </p:nvSpPr>
        <p:spPr>
          <a:xfrm>
            <a:off x="3429000" y="1522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4" descr=""/>
          <p:cNvPicPr/>
          <p:nvPr/>
        </p:nvPicPr>
        <p:blipFill>
          <a:blip r:embed="rId2"/>
          <a:stretch/>
        </p:blipFill>
        <p:spPr>
          <a:xfrm>
            <a:off x="1066680" y="1017720"/>
            <a:ext cx="7004160" cy="50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ond and Lake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1008000" y="1708200"/>
            <a:ext cx="71852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near Sh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is called the littoral zone. The plants in the littoral zone are homes to small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Away from Sh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rea of a lake or pond that extends from the littoral zone across the top of the water called the open-water zone. Beneath the open-water zone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9"/>
          <p:cNvSpPr/>
          <p:nvPr/>
        </p:nvSpPr>
        <p:spPr>
          <a:xfrm>
            <a:off x="3429000" y="15228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4" descr=""/>
          <p:cNvPicPr/>
          <p:nvPr/>
        </p:nvPicPr>
        <p:blipFill>
          <a:blip r:embed="rId2"/>
          <a:stretch/>
        </p:blipFill>
        <p:spPr>
          <a:xfrm>
            <a:off x="2133720" y="1066680"/>
            <a:ext cx="49352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Earth’s Land Bi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1008000" y="1708200"/>
            <a:ext cx="718524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biotic Fa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iotic factors ar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otic Fa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iotic factors ar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o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biome is a large area characterized by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tland Eco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1008000" y="1708200"/>
            <a:ext cx="718524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s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is called a marsh. Muskrats, turtles, frogs, and birds live in mar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wam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 is called a swamp. Water lilies and other plants grow in standing water. Many fishes, snakes, and birds also live in swam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shwater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rom a Lake to a 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1008000" y="1708200"/>
            <a:ext cx="718524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uild Up of Sedime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ter entering a standing body of water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rmation of a Wetl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ver time, the pond or lake is filled with sediments. Plants grow in the new soil and the pond or lake starts becoming a wetland. The wetland then may develop into a fo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9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"/>
          <p:cNvPicPr/>
          <p:nvPr/>
        </p:nvPicPr>
        <p:blipFill>
          <a:blip r:embed="rId2"/>
          <a:stretch/>
        </p:blipFill>
        <p:spPr>
          <a:xfrm>
            <a:off x="685800" y="995400"/>
            <a:ext cx="786276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008000" y="1981080"/>
            <a:ext cx="7297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emperate Deciduous Fore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temperate deciduous forest, mammals, birds, and reptiles thrive on the many leaves, seeds, nuts, and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371600" y="1004760"/>
            <a:ext cx="68835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e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008000" y="1905120"/>
            <a:ext cx="709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iferous Fore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iferous forest has evergreen trees and many animals mus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887400" y="1004760"/>
            <a:ext cx="7413480" cy="51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d Bi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res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008000" y="1708200"/>
            <a:ext cx="6840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opical Rain Fore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opical rain forests have a greater variety of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7:19:03Z</dcterms:created>
  <dc:creator>Karl Pallmeyer</dc:creator>
  <dc:description/>
  <dc:language>en-US</dc:language>
  <cp:lastModifiedBy>trocksund</cp:lastModifiedBy>
  <cp:lastPrinted>2004-02-20T14:12:55Z</cp:lastPrinted>
  <dcterms:modified xsi:type="dcterms:W3CDTF">2014-05-07T16:24:23Z</dcterms:modified>
  <cp:revision>146</cp:revision>
  <dc:subject/>
  <dc:title>PowerPoint Presentation</dc:title>
</cp:coreProperties>
</file>